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F02-3D8B-4AFC-AC2A-E38EAD5F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C718-AAD1-4C4D-8953-BB1C4D04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68AE-4158-438D-A28B-F6742547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9CD9-ECA3-4C60-A79A-806B4424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54A6-F7CD-4CB1-8DC9-9EE05B07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4D09-1A4E-4A60-9491-75EB465B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318D-D479-4D8C-9455-282B1F72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8C9E-0E31-461D-BB0F-9FD5C7ED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0D0-503A-401B-95D9-38D5D8E5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920-7F74-45EA-9329-495B784C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7FA7-B03F-4F3A-8390-33A8CAEA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CA81-3458-4B8D-B92C-3FE4CBDA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96E1-6B30-416E-AC08-341C668EC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P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t is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 I interes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7:58:55Z</dcterms:created>
  <dc:creator>BHPRSD</dc:creator>
  <dc:description/>
  <dc:language>en-US</dc:language>
  <cp:lastModifiedBy>BHPRSD</cp:lastModifiedBy>
  <dcterms:modified xsi:type="dcterms:W3CDTF">2007-09-12T17:58:55Z</dcterms:modified>
  <cp:revision>1</cp:revision>
  <dc:subject/>
  <dc:title>Book Pass</dc:title>
</cp:coreProperties>
</file>